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CED2-524C-44E7-9FF2-FBF5D805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C11E-7FE2-4F3E-96EA-84D1E73A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8B22-CCD0-4D64-A921-538ABEC2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23A2-39B9-4E60-A3B9-09561151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C2DB-9145-4CF8-9989-0A6FF347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23ED-2587-4D0B-9E6C-E97B8839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CDC6-7F4B-4490-A3B4-968F1D20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F939-6D63-4646-93F1-47BAB0BD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B24F-8392-47B4-BD71-B1D565AF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DC26-EE82-4ED5-B051-1FDF18CC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3A7D-AF39-452B-A78D-94C1A76C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4A52-C691-4A87-93E9-57C8904B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4703-6A36-4400-8404-5E59B882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9B4A-8A46-4A46-9AF2-0AD59B52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DEC3-DAEC-4CA9-849E-65B35291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DDCA-817A-4F68-9B03-52518A33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ED61-E211-41DA-955C-DEC05BF5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6317-23C5-471D-BF5F-73225C7A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1AF8-F00C-4417-86EE-E2440516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6080-501D-4AA4-91E6-B6E4997A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215C-E44A-4AB9-8783-9FEAF0AD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8F12-67E5-4D04-8A3D-7B035CEA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01B1-510B-4379-8583-EC836C9C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CB78-7866-4AA3-A497-A16951A5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AB58-2C25-484F-BEB5-E50E7F5E4A8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BD4B-893A-42D3-A099-483D3FCBE7F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884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66"/>
                </a:solidFill>
                <a:latin typeface="Garamond"/>
              </a:rPr>
              <a:t>Me llamo __________   </a:t>
            </a:r>
            <a:r>
              <a:rPr b="0" lang="en-US" sz="3200" spc="-1" strike="noStrike">
                <a:solidFill>
                  <a:srgbClr val="999966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999966"/>
                </a:solidFill>
                <a:latin typeface="Garamond"/>
              </a:rPr>
              <a:t>Clase 8IM</a:t>
            </a:r>
            <a:br>
              <a:rPr sz="3200"/>
            </a:br>
            <a:r>
              <a:rPr b="0" lang="en-US" sz="3200" spc="-1" strike="noStrike">
                <a:solidFill>
                  <a:srgbClr val="999966"/>
                </a:solidFill>
                <a:latin typeface="Garamond"/>
              </a:rPr>
              <a:t>La fecha es el 16 de septiembre del 2011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Verdana"/>
              </a:rPr>
              <a:t>Propósito # 2: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Entiendes los verbos de cambio radica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orm sentences according to the mode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6666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666699"/>
                </a:solidFill>
                <a:latin typeface="Verdana"/>
              </a:rPr>
              <a:t>el segundo tiempo/empezar. </a:t>
            </a:r>
            <a:r>
              <a:rPr b="1" lang="es-ES_tradnl" sz="2000" spc="-1" strike="noStrike">
                <a:solidFill>
                  <a:srgbClr val="666699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ff9900"/>
                </a:solidFill>
                <a:latin typeface="Verdana"/>
              </a:rPr>
              <a:t>el segundo tiempo emp</a:t>
            </a:r>
            <a:r>
              <a:rPr b="1" lang="es-ES_tradnl" sz="2000" spc="-1" strike="noStrike" u="sng">
                <a:solidFill>
                  <a:srgbClr val="ff9900"/>
                </a:solidFill>
                <a:uFillTx/>
                <a:latin typeface="Verdana"/>
              </a:rPr>
              <a:t>ie</a:t>
            </a:r>
            <a:r>
              <a:rPr b="1" lang="es-ES_tradnl" sz="2000" spc="-1" strike="noStrike">
                <a:solidFill>
                  <a:srgbClr val="ff9900"/>
                </a:solidFill>
                <a:latin typeface="Verdana"/>
              </a:rPr>
              <a:t>z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666699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os trabajadores/empezar a las 7 de la mañan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666699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profesor/querer enseñ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666699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los/preferir estudiar mucho para los exáme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666699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andra/querer sacar un ci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666699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equipo de futbol/no perder los jueg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1353600" y="3451320"/>
            <a:ext cx="61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os trabajadores 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emp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za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a las 7 de la maña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69440" y="4267080"/>
            <a:ext cx="36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l profesor 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qu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re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enseña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66200" y="4952880"/>
            <a:ext cx="63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llos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pref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n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estudiar mucho para los exáme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0160" y="5699160"/>
            <a:ext cx="37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andra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qu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sacar un ci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69800" y="6384960"/>
            <a:ext cx="508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l equipo de futbol no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d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los jueg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Repasar la Tarea # 1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20:32:20Z</dcterms:created>
  <dc:creator>Helen Zumaeta</dc:creator>
  <dc:description/>
  <dc:language>en-US</dc:language>
  <cp:lastModifiedBy>Helen Zumaeta</cp:lastModifiedBy>
  <dcterms:modified xsi:type="dcterms:W3CDTF">2011-09-16T20:33:58Z</dcterms:modified>
  <cp:revision>1</cp:revision>
  <dc:subject/>
  <dc:title>Me llamo __________    Clase 8IM La fecha es el 16 de septiembre del 2011</dc:title>
</cp:coreProperties>
</file>